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0C6-905A-4742-9AE9-2A64E84E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D13-A6CB-4051-B2C7-41DF1771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48F-DD12-4C5C-BBE4-7C40DF8E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329-6663-45CB-8720-62938F37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94C-4A64-4008-8058-827D7D89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1DA3-EFC7-4F49-BD30-F95269C2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91B9-437F-4303-9FBF-0E46BA47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570-8230-423B-A233-B699E3F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CB73-BA7D-4BB8-9A96-C5FF5A7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C1D-56C8-4960-9F61-EF7AFD8E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5E51-ED33-45A6-AE49-81D9DE6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F05-3195-48B4-9CEA-097DCBB1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68C3-488F-4040-ADB7-8429C4C0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DE0-8FB3-4BD7-BA99-5DEF5C4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B762-2D04-4BDB-8ADE-07FEEC9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9942-CBA8-4F62-BEDE-DC3F15AD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28B-8ED1-408B-B59E-892F0319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A75-B2C2-4E4F-8500-CD0DF24C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1C4-D116-4E6F-8E87-39FAA43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DB3-8624-49D5-B992-CCD955E9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562-FCA7-40DB-B155-6A1B087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28E-2A15-4AF9-B3D7-9E95A2E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FB0-5886-4072-9AD1-BF249EF9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241-333F-4725-BEDD-F2F3429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F7FE-072B-483C-A1F3-16CD2AA83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E07B-4C64-4C68-B5D2-D61B32BAD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ASC</cp:lastModifiedBy>
  <dcterms:modified xsi:type="dcterms:W3CDTF">2010-12-15T09:40:39Z</dcterms:modified>
  <cp:revision>5</cp:revision>
  <dc:subject/>
  <dc:title>The History of Russia until 1917</dc:title>
</cp:coreProperties>
</file>